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743-F5DD-4A5C-8C2E-EAA6CAAB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02A-CDD7-4F6D-87EF-9E2020EC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C6E-0DC0-45CE-80CD-3F9B6D66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BDC-F8B5-4303-9745-F9A66CA9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CEF-7205-4C47-AB05-3E7451F1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F19-8C60-43E9-9DA3-9BEF611B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460-EAF1-4ED8-977E-EA763E3D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0E4-24DA-4B1A-8A83-3C9344E0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100-020F-48B8-A61B-4BA9280E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12D-CEBA-42B7-BF3D-DE744C70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6AD-C852-4309-8369-B0E3BD69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15F-B30F-4753-AEE7-F3A14E19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CCF3-61D1-4FB0-9500-4FBB06B79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أمر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بالمعروف والنهي عن المنكر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من من عذاب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13800" cy="568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4211640" cy="90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4316400" cy="194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4284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95280" y="957240"/>
            <a:ext cx="853272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8642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179280" y="1438200"/>
            <a:ext cx="8713800" cy="523080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23920" y="589284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طاعة الله والرسول في كل أمر والبعد عن كل ما نهى عن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503280" y="1125360"/>
            <a:ext cx="8202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2679840" y="3213000"/>
            <a:ext cx="6222960" cy="135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3378240" y="5365800"/>
            <a:ext cx="553716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179280" y="249228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وف من الله تعالى والدعاء بأن يثبت الله قلبه على الإيم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452592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سماع تفه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3351240"/>
            <a:ext cx="86281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34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73280"/>
            <a:ext cx="8542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696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116000" y="1197000"/>
            <a:ext cx="770724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7667640" y="342900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250920" y="389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ا تعرضو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581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يو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229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كلام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8723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جيبوا الله والرس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سماع الذي نفاه الله عن المشركين في قوله تعالى :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هو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ماع تدبر وعظ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49228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ما سماع التبليغ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قامت الحجة عليهم به بما سمعوه من آي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213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أن من  الناس من هو شر من الدواب وأحط منزل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الله تعالى وهبهم أسماعاً وأبصاراً وأفئدة فاستعملوها في معصيته وتركوا طاعته وأم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منع الإيمان والخير إلا ع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خير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730520" y="1484280"/>
            <a:ext cx="2481120" cy="4842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179280" y="4797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ان عدم هداية الله ل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أنفسهم لا تقبل الخير ولا تميل إلى الهدى إذ عرف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44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استجابة لله ولرسوله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اة المسلمين الحقيقية وقوتهم وعزت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609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طريق سعادة المرء في الدنيا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تقوى الله وطاعة رس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طريق سعادة المرء في الدنيا يكون بتقوى الله وطاعة رسوله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85264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قلوب بيد الله تعالى يصرفها كيف يش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عائ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يا مقلب القلوب ثبت قلبي على دينك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86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ذر من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450864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ضررها لا يقتصر على الفاعل فحسب بل يتضرر بذلك المجتمع بأس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5445000"/>
            <a:ext cx="86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ضرر الفسوق والمعاصي والمنكرات لا يقتصر على الفاعل فحسب بل يتضرر بذلك المجتمع بأس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ذا ظهرت المعاصي في أمتي عمهم الله بعذاب من عنده ...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27040" y="1989000"/>
            <a:ext cx="83311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